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964-52DD-497D-946A-CBDC476D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83A-B4C0-4191-B47A-9317BD5A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B57-8943-4D9C-95D2-95D25D90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549-E4CD-4D82-A95D-054B4BDD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BA2-7D5E-4209-AF60-A432AE2C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A13-A564-4C7F-803E-F1C1225D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AEF-D69C-401A-9771-415E5C0D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B39-222D-493F-A10E-CE75671D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936-FF30-4F43-9444-55CD1F04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5C5-F65E-4AD8-B657-5810D980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32B-7432-475C-843B-99936BFE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B22-7043-450D-A3BC-2CD8B13E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317D-86A3-41E0-B542-3B22F6CDE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and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st differences in the mean imply big differences at the extr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 S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g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genetic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imagine adaptive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hgeddabo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Capital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 Model: Parents invest in human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kids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rue for genetic con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ything’s Heri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aw.  All human behavioral traits are heri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aw. The effect of being raised in the same family is smaller than the effect of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Law. A substantial portion of the variation in complex human behavioral traits is not accounted for by the (additive) effects of genes or famil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Law: Genetic variants that are common in a population have very small individual effects on behavioral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ways like this in other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different in sub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selection can chang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win studies are all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G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ociety selects for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uninten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eder’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ow-sense heri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selection differ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 can be fast or s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changes can happen in less than 100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time available for human differentiation, ~100,00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 Freedman’s bab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differences at bir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s, Classes,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changes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change by selection and differential recru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, differential recru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02:30:46Z</dcterms:created>
  <dc:creator>Gregory Cochran</dc:creator>
  <dc:description/>
  <dc:language>en-US</dc:language>
  <cp:lastModifiedBy>Gregory Cochran</cp:lastModifiedBy>
  <cp:lastPrinted>2014-04-17T07:25:30Z</cp:lastPrinted>
  <dcterms:modified xsi:type="dcterms:W3CDTF">2014-04-18T05:04:58Z</dcterms:modified>
  <cp:revision>6</cp:revision>
  <dc:subject/>
  <dc:title>Some Talk</dc:title>
</cp:coreProperties>
</file>