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F525-801E-443F-8A6B-58B3338E8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16E-640C-46D3-A8D8-2DA075D3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089F-2C6A-45BF-81B7-5636AE28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6DD1-FF0A-4932-ADFE-14ED9206C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31D6-2E7F-441B-A94A-C74AA001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FFD9-1EC2-483F-91C5-7554C6462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83E4-5D42-4B13-8425-844A94150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7D1-1203-4F88-A582-287BD277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F61B-AAA1-47FF-8B93-EA385B290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D266-94B9-46C8-9F8A-C61B4B9F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2B7A-622D-4DE7-93A5-B82E0C334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9308-624E-4109-AD43-F049EA09B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3B4D7-06A6-422B-A91E-9FC5D95911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s and Socie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st differences in the mean imply big differences at the extr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Iso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graphic S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oga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pigenetic Inherit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e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to imagine adaptive mecha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hgeddabo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man Capital 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 Model: Parents invest in human ca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wer kids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rue for genetic contrib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erything’s Heri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Law.  All human behavioral traits are heri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Law. The effect of being raised in the same family is smaller than the effect of ge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Law. A substantial portion of the variation in complex human behavioral traits is not accounted for by the (additive) effects of genes or famili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tic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Law: Genetic variants that are common in a population have very small individual effects on behavioral tra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always like this in other spe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be different in sub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ong selection can change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win studies are all ri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ording to G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 society selects for someth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ually unintend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reeder’s Eq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 =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rrow-sense heri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 = selection differ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ection can be fast or sl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esting changes can happen in less than 10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ximum time available for human differentiation, ~100,000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n Freedman’s bab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havioral differences at bir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pulations, Classes, Jo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ion changes popu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ses change by selection and differential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bs, differential recrui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7T02:30:46Z</dcterms:created>
  <dc:creator>Gregory Cochran</dc:creator>
  <dc:description/>
  <dc:language>en-US</dc:language>
  <cp:lastModifiedBy>Gregory Cochran</cp:lastModifiedBy>
  <cp:lastPrinted>2014-04-17T07:25:30Z</cp:lastPrinted>
  <dcterms:modified xsi:type="dcterms:W3CDTF">2014-04-18T05:04:58Z</dcterms:modified>
  <cp:revision>6</cp:revision>
  <dc:subject/>
  <dc:title>Some Talk</dc:title>
</cp:coreProperties>
</file>